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824-2076-4B76-A80A-321768AD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F10-DBFF-45C0-BFEA-DE2AEEE9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EE0-F740-4D39-B526-8DBBCA41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618-35DE-470D-9541-30F4A98F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C0D-5A41-455B-8F3E-33B62B34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877-C802-4564-833C-C08F854D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4B2-4BC0-45B7-AD8E-B90F715C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D63-D6A3-4AE7-9380-E21CD531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C2E-C233-454D-8BCB-27A55F26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BC1-12F7-446A-993B-1F8A6A33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D62-06BD-4414-A60E-7F6C7C68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850-421F-4759-BE37-2F163E7E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C672-C836-49A8-8FA5-2D37554BF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052640"/>
            <a:ext cx="2627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imenti migr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2205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57720"/>
            <a:ext cx="2592360" cy="2087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do le pers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un paese se 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nno all’est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vivere e cer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08000" y="7101000"/>
            <a:ext cx="75564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5805360"/>
            <a:ext cx="3780000" cy="10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i italiani sono stati emigran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molti paesi e, anche se meno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a volta, lo sono anche ogg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564000" y="4221000"/>
            <a:ext cx="3600360" cy="1224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e principal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5943600"/>
            <a:ext cx="136836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331640" y="5516640"/>
            <a:ext cx="144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995640" y="5950080"/>
            <a:ext cx="5050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932360" y="537372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11640" y="544500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5943600"/>
            <a:ext cx="12016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. S.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544500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92360" y="5950080"/>
            <a:ext cx="1476360" cy="907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7280" y="1700280"/>
            <a:ext cx="3241440" cy="2065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 chiama IMMIGR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do in un pae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rivano stranieri a vivere 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care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2060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321300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3357720"/>
            <a:ext cx="1763640" cy="1008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rrivano immigr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talia sopratt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524360" y="436572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04360" y="436572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93080" y="4365720"/>
            <a:ext cx="1274760" cy="1130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8360" y="4653000"/>
            <a:ext cx="91440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987640" y="907560"/>
            <a:ext cx="576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49360"/>
            <a:ext cx="23763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 persone van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vivere in un al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se 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0"/>
            <a:ext cx="216036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ggire da situa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semp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er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549360"/>
            <a:ext cx="719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7:54Z</dcterms:created>
  <dc:creator>studente</dc:creator>
  <dc:description/>
  <dc:language>en-US</dc:language>
  <cp:lastModifiedBy>studente</cp:lastModifiedBy>
  <dcterms:modified xsi:type="dcterms:W3CDTF">2016-12-05T09:03:41Z</dcterms:modified>
  <cp:revision>2</cp:revision>
  <dc:subject/>
  <dc:title>Diapositiva 1</dc:title>
</cp:coreProperties>
</file>